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12.jpeg" ContentType="image/jpeg"/>
  <Override PartName="/ppt/media/cashreg.wav" ContentType="audio/x-wav"/>
  <Override PartName="/ppt/media/image4.jpeg" ContentType="image/jpeg"/>
  <Override PartName="/ppt/media/image1.jpeg" ContentType="image/jpeg"/>
  <Override PartName="/ppt/media/projctor.wav" ContentType="audio/x-wav"/>
  <Override PartName="/ppt/media/image2.jpeg" ContentType="image/jpeg"/>
  <Override PartName="/ppt/media/drumroll.wav" ContentType="audio/x-wav"/>
  <Override PartName="/ppt/media/image3.jpeg" ContentType="image/jpeg"/>
  <Override PartName="/ppt/media/ricochet.wav" ContentType="audio/x-wav"/>
  <Override PartName="/ppt/media/clap.wav" ContentType="audio/x-wav"/>
  <Override PartName="/ppt/media/chimes.wav" ContentType="audio/x-wav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8FBA-4C02-4C4C-BBD5-806905AD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D96B-3E49-4E28-B80F-710473F7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0AAA-E011-4602-9915-A4933111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8CC6-7857-483E-B0DB-07DDE4B9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AB59-C9EB-4A5F-AF5A-45F1DD41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697C-1712-435A-85C2-70EA6FD7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A134-97A3-4239-AD4A-03AEA770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3459-0CE5-47B4-AD8A-98721A1E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8F0E-724E-4B17-AF20-BEC616B1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D0C5-EB98-401D-9553-01CA1F33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A70F-8E27-48AD-BBEB-BB31C225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D682-9F29-446A-86A7-6FC0674E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C38E-5EF7-46AD-8813-2441E4D1F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762120"/>
            <a:ext cx="5029200" cy="228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"/>
              </a:rPr>
              <a:t>WASHINGTON D.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"/>
              </a:rPr>
              <a:t>OUR NATION’S 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21932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"/>
              </a:rPr>
              <a:t>Smithsonian museums</a:t>
            </a:r>
            <a:br>
              <a:rPr sz="4400"/>
            </a:br>
            <a:r>
              <a:rPr b="0" lang="en-US" sz="4400" spc="-1" strike="noStrike">
                <a:solidFill>
                  <a:srgbClr val="cc6600"/>
                </a:solidFill>
                <a:latin typeface="comic"/>
              </a:rPr>
              <a:t>MALL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828800" y="-914400"/>
            <a:ext cx="10972800" cy="7772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0" y="-533520"/>
            <a:ext cx="6921360" cy="1557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 Extra Bold"/>
              </a:rPr>
              <a:t>The National Shrin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larendon Condensed"/>
              </a:rPr>
              <a:t>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larendon Condensed"/>
              </a:rPr>
              <a:t>IMMACULATE CONCE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VIETNAM MEM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tnam Veterans Memorial is a wall shaped like a “V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5,000 Americans,  who were killed in Vietnam, have their names engraved on the w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3809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IWOA JI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ine Corps War Memo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ising of the Flag on Mount Suribachi during W.W. I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ttle won in194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Marines and a Navy hospital corpsman raised the U.S. fla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49160" y="1981080"/>
            <a:ext cx="3683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entury Gothic"/>
              </a:rPr>
              <a:t>WASHINGTON MON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ONUMENT HONORS A SPECIAL PERSON OR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HINGTON MONUMENT HONORS GEORGE WASHINGTON, OUR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ES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8102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99"/>
                </a:solidFill>
                <a:latin typeface="comic"/>
              </a:rPr>
              <a:t>JEFFERSON MEMOR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ial to Thomas Jefferson,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es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 of the Declaration of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d in 1943, 2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niversary of his bi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2236680"/>
            <a:ext cx="419076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"/>
              </a:rPr>
              <a:t>LINCOLN MEM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nors Abraham Lincoln, our 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es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ettysburg Address is engraved on the 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8 marble columns and 56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7080" y="1523880"/>
            <a:ext cx="3738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ff"/>
                </a:solidFill>
                <a:latin typeface="comic"/>
              </a:rPr>
              <a:t>OUR CAPITO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Capitol Building has a large d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Congress makes the laws for our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100 Senators – 2 from each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440 members  of the the House  of Represent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2476440"/>
            <a:ext cx="38098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ff"/>
                </a:solidFill>
                <a:latin typeface="comic"/>
              </a:rPr>
              <a:t>SUPREME COUR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ighest court  in the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ttles questions about the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9 Justices –serve in their job as long as they w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Justice is chosen by the President, approved by the Se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2654280"/>
            <a:ext cx="38098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90720" y="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66ff"/>
                </a:solidFill>
                <a:latin typeface="comic"/>
              </a:rPr>
              <a:t>WHITE HOUS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22860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comic"/>
              </a:rPr>
              <a:t>WHITE HOUSE TOU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7724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"/>
              </a:rPr>
              <a:t>SMITHSON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mes Smithson was an Englishman dedicated to lear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mithsonian Institute founded in 1829 with the Cast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 there are many Museums to se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7:12:20Z</dcterms:created>
  <dc:creator>PC04</dc:creator>
  <dc:description/>
  <dc:language>en-US</dc:language>
  <cp:lastModifiedBy>lyerkes</cp:lastModifiedBy>
  <dcterms:modified xsi:type="dcterms:W3CDTF">2011-05-24T18:22:13Z</dcterms:modified>
  <cp:revision>5</cp:revision>
  <dc:subject/>
  <dc:title>PowerPoint Presentation</dc:title>
</cp:coreProperties>
</file>